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E305-5742-4913-9E4A-80D91D7E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E133-4DE6-4420-9053-89C79722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E911-428F-46F5-91DB-F62AF627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AD8-F2E7-4813-A80C-90B88D1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42E-CF91-47CC-AAE0-477C7CE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3ACEA-ECD1-430C-898D-2892D23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7996E-42BA-4F84-912E-E1C273CE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702B4-719C-47D1-83CF-210DA3F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7AAF6-C19A-4FC3-B535-9831555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1DB53-CE04-4373-8597-D8F77C5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8D6D6-0613-4FDD-B99F-72B9378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0765B-26F1-4EE9-ACA9-BA6C373A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7BB2A-B629-413E-9CA4-0EF04EFD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571D8-BFCB-436B-86E8-38C2ED5E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EF717-69B9-40A0-A316-D1C6A248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AA4-B572-4D27-BEAB-73BCE566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9F481-003F-49D3-8462-4E50739A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56C78-EDAA-426F-BE98-9431926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7DF0C-2A87-4D73-B86D-1680A4E6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6F915-9DB3-4E93-96DB-EB84836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4796E-D557-4C57-8769-7472B91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4838B-CF5C-41A2-BCE0-282BC1E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1FFCF-4A66-426E-840F-B1663D1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8DA33-BF33-47CC-AC43-80F8D9A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F972B-3A5D-4C8F-AAD9-6048FCD4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74404-924A-4847-BB2E-5EB74950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26D-8F5B-4B51-AF3D-7DEC8930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6A568-0FB0-428E-86B3-D026917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59B28-5A48-4FEB-91BB-D22FB71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D4101-B352-4F94-ADDE-3DBD008D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F559E-6888-4B25-884B-7055363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0F1AC-A2FC-44F2-A227-BC8AB8C4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40043-2508-4EB2-B0BB-006EC00E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8F6EE-D349-4DD2-B819-3EC68EC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6EEBA-3AA9-47C8-ADD8-3AE6E57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656C3-E92C-4EB8-9F2F-5944268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C52EE-205D-4339-86D2-F64998E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33A-F2D8-4721-90B1-06158E3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1D1B8-461F-4078-BBDA-68DC45C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0F82C-87E1-46AD-BF12-1F623B5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8BF6-E27C-47F4-8E5C-94886D38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75590-B0AD-4342-AB8B-8E95B73E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A6F52-EE57-4DEE-8714-D00F790E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08DB7-0E3D-40D4-8BA0-65E42C1A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CC630-9FF8-4723-8EB1-239B83B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66BB3-436C-4BBC-9383-66B5390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7E6F2-3D09-4A16-A1CD-8F8613B3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9F9DF-4AD1-4E3F-82C7-4290AEB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13A-8CC9-47AA-9A46-0BAC3CFD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F737C-7D2F-43E2-9F22-694F132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0F818-1971-4072-A886-D185914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2579C-44D4-4EB9-B4FD-FED9D1A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B7601-6BA5-48FD-A020-64C7276C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89834-7C7E-49B7-AA79-8165C405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A7AD-2E0F-4287-8EAF-5071B290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88B8-711E-4B38-9ABA-8ABF949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ACE0-ED84-4E1B-9DE4-8AF484A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FED-0014-4971-9F94-BF41D1DC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C477-97FD-4AC2-93A3-0B70460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57A-3061-4BAE-AEAB-1B86E05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72CC-1950-404F-B3B1-C9FCE45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F94-BACF-49B1-98F3-4E751811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374-9360-4579-BCE0-603450AF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4134-7279-4E17-A47E-7CDD87A4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4C63-1862-4C30-B3B1-F7C0CDA2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AA91-1FC7-4103-BE4E-AB5B48E5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EFFA-CD5B-41EB-9644-F62C016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8D37-1A82-4480-8042-F2CC9CEE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C7AF-B7EC-4F16-AF36-E26BE07D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7AED-0EDE-42BD-8AE0-18FF875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B82-3B3F-4128-AE9F-5CA880C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E8FE-4511-4794-B887-3DCAE23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5961-B3E2-474B-9780-C613469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937D-1752-4754-A44B-2A109CC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5842-DF47-4B2D-A57E-73253AA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A499-56E8-4E15-A07C-153AD67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D883-6ED8-4A86-9360-B36E5D7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B0CB-BD37-47DC-9F75-3334CCEB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FE6C-0CDA-4AF4-9416-1C85F2A4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385E-CEA0-44AC-BA1C-C56AA03E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B45E-0E8F-4F80-B523-DD02DD0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356-8B41-457B-84EE-56B755BB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AF8A-0732-40FD-BFC7-A7C4213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6665-C47E-4574-980F-C15E1CB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D7F9-3E35-4112-9B37-22E2E931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0C28-F72B-4E5E-B7DC-430F4CD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E613-C5A7-4F61-ACE6-1D010DB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7EDB1-C16E-47CA-876D-EA8E5B7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8CF1-BC60-407D-9292-FD8C8EE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8B38-07F2-4E3E-B27B-EF22E59A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E3D5-5728-4DDE-BCCC-6E07640B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4845-DBF4-48E8-A203-2526677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EAD-453D-4FC7-B1F8-66A08A5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1F4C-D7ED-4711-A591-52F2C7FA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D5C9-97B5-4ECF-8797-48C7A68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AD66-F785-4FA9-8A97-24DFAA4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5E5B6-B81C-4C5B-834D-C9172B41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0586C-166E-441D-AE4C-9F568A6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8B88-08AD-4AE8-90E2-5F613A6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5244-AB15-4DA8-BDD5-AF216C5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9B9C3-64F7-4C3E-8E8D-BBBB2EF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C5C1-0650-4AEF-8DAE-33767B1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384F-8834-447D-84BF-EBDBC868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FD7-BB85-4645-91A5-C60B33E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4556-B0DC-4D08-9C78-837A4B43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66D8-D4B1-4B0C-B193-56FF38A0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A5A2-4E78-498D-85C0-ECCCE9C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F4BC-24F0-4062-8107-608E3472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4166-E2CA-4BD8-8695-2A134B6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FFEE-31EA-4BC6-85B0-18D684F0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8998-95E5-4F2E-B372-E195359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6956-B1BD-4FC0-A4E3-5BE4EC2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A723-37A6-4310-B10D-15B78DA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5507-42EB-429A-8CA8-E9ED73E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033-2704-4913-8E7F-7342B07B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24F6-8FDD-44CD-AC12-86D10C50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00C9-0810-4867-A2E5-FF585B35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62E6-2235-4166-9EA5-96232C7A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C3ED-F0AF-4537-9932-0AC95351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CB3C-0D32-4F18-BAE6-4731DDC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409E-97CF-4584-BC2C-52D242A8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ED58-D077-478B-BB87-37C520A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3929-4AFE-4D17-95A4-46D53E8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6D1A-96A5-4399-9119-06E4178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B7C5-32CF-4CE3-BF76-D19CEC4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95F-7E1D-44C4-81FD-39D7730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0345-492F-4A14-91BD-CC2CA58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7A03-0D84-41B7-91BE-685CDBE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E6F4-C2AF-4915-8A07-F5576F0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2CE5-AE79-4339-9194-FFD5CDCD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67BC-6642-4418-A094-889598B2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0998-A5ED-4666-9EC1-7F99305B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ABF9-D2AA-4D0A-977E-3996F61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4E34-4268-4009-99E0-CF86890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5692-9544-47EC-B99B-8DD63CBB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5CD9-A81E-4AC0-941D-07D28ACA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7C6-BA60-4260-953F-426A036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6621-F214-44DB-B24B-7A2AC3C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D8955-6305-4900-B5BA-A691453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71B32-AF4A-44D6-91D0-DDA3594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815D9-3F08-4B80-92E4-29DE6B8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B6A6-EEFA-4E82-82F7-6FC41E5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B9CE-1C59-445E-91E1-F68E9D7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1A2C-2F77-4A06-9FC4-121A9D54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77517-034D-41DB-A798-0A28E94A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AEBA8-9FCC-4929-815A-FAED059E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ACF99-62BA-4495-B617-C28462F9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58FD-2BD3-448C-A3EE-64B074F78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64A-41A2-447D-A2A7-2037467C9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1B09-23B8-4A09-BDB1-A748221A0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104-8949-4274-8466-15711AE29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E37-D85C-4E41-B3C5-DF1DBBDE1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85D-CFC7-4C10-A835-3C4CF30C8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299-5085-4824-998B-884D70B91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C88-0D8B-4F4D-9444-AE80A8308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D2D-A4B5-4E22-9457-DF5494397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8ADF-05B6-45D6-AEC2-448DA2EE6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77CE-DFAC-4097-841A-C155466F9A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8DC-F1D7-4C54-9160-8FA5AD242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laisv@tas.edu.tw" TargetMode="External"/><Relationship Id="rId2" Type="http://schemas.openxmlformats.org/officeDocument/2006/relationships/hyperlink" Target="mailto:chens@tas.edu.tw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9984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AIPEI AMERICAN SCHOO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SL DEPART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Learning Vocabulary in a Second Languag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7" descr="http://pro.corbis.com/images/42-15523332.jpg?size=67&amp;uid=ECD124CD-13A8-44C7-99D9-4CC1F06FC2EB"/>
          <p:cNvPicPr/>
          <p:nvPr/>
        </p:nvPicPr>
        <p:blipFill>
          <a:blip r:embed="rId1"/>
          <a:stretch/>
        </p:blipFill>
        <p:spPr>
          <a:xfrm>
            <a:off x="1447920" y="1752480"/>
            <a:ext cx="6300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al for ESL Par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Picture 4" descr="C:\Documents and Settings\blaisv\Desktop\VocabularyWorkshop\waterheadbaby14.jpg"/>
          <p:cNvPicPr/>
          <p:nvPr/>
        </p:nvPicPr>
        <p:blipFill>
          <a:blip r:embed="rId1"/>
          <a:stretch/>
        </p:blipFill>
        <p:spPr>
          <a:xfrm>
            <a:off x="2666880" y="1676520"/>
            <a:ext cx="3810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71600" y="3123720"/>
            <a:ext cx="64800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HANDS-ON ACTIVITIES FOR REA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WEDNESDAY, NOVEMBER 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FIRST GRADE PAR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Make &amp; Take Worksho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day’s Focu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2437920"/>
            <a:ext cx="85042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Meaning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an you do at hom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2057040"/>
            <a:ext cx="85042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discuss in your first langu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mily Field Tri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de 1 Web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nds-on Activ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ading Togeth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Picture 4" descr="C:\Documents and Settings\blaisv\Desktop\VocabularyWorkshop\family13.jpg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amily Field Tri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5" name="Picture 2" descr="http://www.life123.com/bm.pix/teaching-children-about-stars.s600x600.jpg"/>
          <p:cNvPicPr/>
          <p:nvPr/>
        </p:nvPicPr>
        <p:blipFill>
          <a:blip r:embed="rId1"/>
          <a:stretch/>
        </p:blipFill>
        <p:spPr>
          <a:xfrm>
            <a:off x="1523880" y="1905120"/>
            <a:ext cx="5991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de 1 Websi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17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s-on Activi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4" descr="C:\Documents and Settings\blaisv\Desktop\VocabularyWorkshop\SANY0080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know what to focus 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7" descr="http://americanradioworks.publicradio.org/features/gmos_india/slideshow/food_india/food_india2.jpg"/>
          <p:cNvPicPr/>
          <p:nvPr/>
        </p:nvPicPr>
        <p:blipFill>
          <a:blip r:embed="rId1"/>
          <a:stretch/>
        </p:blipFill>
        <p:spPr>
          <a:xfrm>
            <a:off x="1295280" y="1752480"/>
            <a:ext cx="67359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tent Vocabul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5" descr="http://www.super-science-fair-projects.com/image-files/kayla.gif"/>
          <p:cNvPicPr/>
          <p:nvPr/>
        </p:nvPicPr>
        <p:blipFill>
          <a:blip r:embed="rId1"/>
          <a:stretch/>
        </p:blipFill>
        <p:spPr>
          <a:xfrm>
            <a:off x="3352680" y="1752480"/>
            <a:ext cx="2513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ds Their Wa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4" name="Picture 2" descr="SANY0002.JPG"/>
          <p:cNvPicPr/>
          <p:nvPr/>
        </p:nvPicPr>
        <p:blipFill>
          <a:blip r:embed="rId1"/>
          <a:stretch/>
        </p:blipFill>
        <p:spPr>
          <a:xfrm>
            <a:off x="1600200" y="1676520"/>
            <a:ext cx="60800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to play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ess which one is miss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h no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m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el free to contact us with any questions you might have about vocabula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rginia Bla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blaisv@tas.edu.t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san Ch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chens@tas.edu.t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ke A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nk of one of the hands-on activities you learned about tod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the one you like be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 home and make it with your child this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com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ease fill out a feedback form before you go so that it can help us prepare for the next ESL Parent worksho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urn and talk to a partner about your experienc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nk about a time that you had to learn a new language.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at types of words did you learn first?  Why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cebreak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4" descr="C:\Documents and Settings\blaisv\Desktop\play.JPG"/>
          <p:cNvPicPr/>
          <p:nvPr/>
        </p:nvPicPr>
        <p:blipFill>
          <a:blip r:embed="rId1"/>
          <a:stretch/>
        </p:blipFill>
        <p:spPr>
          <a:xfrm>
            <a:off x="1676520" y="1752480"/>
            <a:ext cx="5949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L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4" descr="C:\Documents and Settings\blaisv\Desktop\science.JPG"/>
          <p:cNvPicPr/>
          <p:nvPr/>
        </p:nvPicPr>
        <p:blipFill>
          <a:blip r:embed="rId1"/>
          <a:stretch/>
        </p:blipFill>
        <p:spPr>
          <a:xfrm>
            <a:off x="1676520" y="1752480"/>
            <a:ext cx="59166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cabul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3" descr="C:\Documents and Settings\blaisv\Desktop\bighead7.jpg"/>
          <p:cNvPicPr/>
          <p:nvPr/>
        </p:nvPicPr>
        <p:blipFill>
          <a:blip r:embed="rId1"/>
          <a:stretch/>
        </p:blipFill>
        <p:spPr>
          <a:xfrm>
            <a:off x="2819520" y="1600200"/>
            <a:ext cx="3492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Chart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5" descr="http://www.ling.gu.se/~sylvana/Images/Writing/writing-with-pen.jpg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5" descr="http://www.wickedlyscarlett.com/wp-content/uploads/2009/05/tourism.jpg"/>
          <p:cNvPicPr/>
          <p:nvPr/>
        </p:nvPicPr>
        <p:blipFill>
          <a:blip r:embed="rId1"/>
          <a:stretch/>
        </p:blipFill>
        <p:spPr>
          <a:xfrm>
            <a:off x="380880" y="335268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http://newsimg.bbc.co.uk/media/images/42381000/jpg/_42381909_playing416.jpg"/>
          <p:cNvPicPr/>
          <p:nvPr/>
        </p:nvPicPr>
        <p:blipFill>
          <a:blip r:embed="rId2"/>
          <a:stretch/>
        </p:blipFill>
        <p:spPr>
          <a:xfrm>
            <a:off x="4800600" y="1600200"/>
            <a:ext cx="3962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00:30Z</dcterms:created>
  <dc:creator>Apple</dc:creator>
  <dc:description/>
  <dc:language>en-US</dc:language>
  <cp:lastModifiedBy>TAS</cp:lastModifiedBy>
  <dcterms:modified xsi:type="dcterms:W3CDTF">2009-10-14T02:49:14Z</dcterms:modified>
  <cp:revision>189</cp:revision>
  <dc:subject/>
  <dc:title>Learning Vocabulary in a Second Language</dc:title>
</cp:coreProperties>
</file>